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E72-CA86-4BD8-BF5F-FFB3D466E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142A-B7E0-40F2-8F26-4F3242E3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2796-7D0C-4215-A2B9-B18679B8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4A87-E859-41B2-8546-D0F6E97F1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638B-3070-43A4-A9C8-B60BDDFBE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2CE4-C21E-48D5-8C37-CEB934146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6FD4B-7FF3-4DEE-BE12-FE779839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EF97-ACA7-4173-A18D-2F93D267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922A6-D729-4EED-B97F-0A97DDD5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27DC-C940-4504-988E-0E85A087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F6F80-8DAA-433F-896D-FF68F254A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409-CC0C-4B86-A8E2-1453E5A0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FCA2-60BD-4AE6-9B89-6D925F7E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CBEF-3953-433E-85D9-09B3A334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74A6-AB90-46E9-89B2-E6A2EA04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B0EB1-8ABE-4BAC-94A8-C7595D835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7B866-8E6A-4786-BF6A-71041E32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EB33-337C-4086-BB39-9A3614A6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3D8B-BD38-4B11-9F65-EF9C26E6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4F3A-1A78-473A-94F2-A5C76E6B6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9B88-D749-47A6-B2FA-860A9F15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34F-C18C-410A-9EA9-57B9ECE9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3EA1-7B72-4E63-A733-223464C1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62E-6556-49FF-BEF9-C4BE1657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C0309-3FC2-4DBC-A8B7-C6F4A2B0902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CDFD-BBAD-4891-875A-EF43FDECC8D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pago puede ser programado y a la hora que quiera la empr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El proveedor podrá ver el detalle de las facturas, que se le esta pagando electrónicamente, en la WEB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Pueden emitirse cheques de CAJ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Se puede acreditar a una cuenta especific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837720" y="243792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FINALIZA EL ROL DEL USUARIO OPERADOR, CONTINUA EL SUPERVISOR PARA VERIFICAR QUE TODO EL LOTE ESTA CORRECT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72040" cy="320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029200" y="2743200"/>
            <a:ext cx="411480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3733920" cy="49528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809880" y="1905120"/>
            <a:ext cx="5334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666880"/>
            <a:ext cx="76201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FINALIZA EL ROL DEL USUARIO SUPERVISOR, CONTINUA EL ENVIADOR  PARA EMITIR LOS CHEQUES EN BANCO Y ACREDITAR EN LAS CUENTAS RESP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4172040" cy="350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876920" y="2895480"/>
            <a:ext cx="4038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819520" y="1905120"/>
            <a:ext cx="2933640" cy="1133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523880" y="3048120"/>
            <a:ext cx="6172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620120" cy="4952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2057400" y="4267080"/>
            <a:ext cx="4800600" cy="14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4172040" cy="2533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029200" y="2895480"/>
            <a:ext cx="3800520" cy="28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3200400" cy="18288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304920" y="4572000"/>
            <a:ext cx="3200400" cy="167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3505320" y="1905120"/>
            <a:ext cx="56386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1629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620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76212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AGO DE PROVEEDORES</a:t>
            </a:r>
            <a:br>
              <a:rPr sz="2400"/>
            </a:b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I-B@N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705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ANCO INDUSTRIAL, S.A.</a:t>
            </a:r>
            <a:br>
              <a:rPr sz="2400"/>
            </a:b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   EL FUTURO HOY PARA TODOS</a:t>
            </a:r>
            <a:br>
              <a:rPr sz="2400"/>
            </a:b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2895480"/>
            <a:ext cx="7620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es-ES_tradnl" sz="4400" spc="-1" strike="noStrike">
                <a:solidFill>
                  <a:srgbClr val="ffffcc"/>
                </a:solidFill>
                <a:latin typeface="Times New Roman"/>
              </a:rPr>
              <a:t>FIN DE LA PRESENTAC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762120"/>
            <a:ext cx="7010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PAGO DE PROVEEDORES</a:t>
            </a:r>
            <a:br>
              <a:rPr sz="2400"/>
            </a:b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BI-B@N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4572000" cy="4724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5105520"/>
            <a:ext cx="4495680" cy="14763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350532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858000" y="1828800"/>
            <a:ext cx="160956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2971800"/>
            <a:ext cx="9144000" cy="37051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5238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Archivo delimitado por comas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99 identificador de cheque de caja o voucher</a:t>
            </a:r>
            <a:br>
              <a:rPr sz="3200"/>
            </a:br>
            <a:r>
              <a:rPr b="0" lang="es-ES_tradnl" sz="3200" spc="-1" strike="noStrike">
                <a:solidFill>
                  <a:srgbClr val="ffffcc"/>
                </a:solidFill>
                <a:latin typeface="Times New Roman"/>
              </a:rPr>
              <a:t>Créditos a números de cuent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4495680" cy="46483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49568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6629400" cy="4952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838920" y="1905120"/>
            <a:ext cx="2305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PAGO DE PROVEEDORES</a:t>
            </a:r>
            <a:br>
              <a:rPr sz="4400"/>
            </a:br>
            <a:r>
              <a:rPr b="0" i="1" lang="es-ES_tradnl" sz="4400" spc="-1" strike="noStrike">
                <a:solidFill>
                  <a:srgbClr val="ffcc66"/>
                </a:solidFill>
                <a:latin typeface="Times New Roman"/>
              </a:rPr>
              <a:t>BI-B@NKING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197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1:21:33Z</dcterms:created>
  <dc:creator>OTTO GARRIDO</dc:creator>
  <dc:description/>
  <dc:language>en-US</dc:language>
  <cp:lastModifiedBy>ogarrido</cp:lastModifiedBy>
  <dcterms:modified xsi:type="dcterms:W3CDTF">2005-07-12T23:37:10Z</dcterms:modified>
  <cp:revision>8</cp:revision>
  <dc:subject/>
  <dc:title>PAGO DE PROVEEDORES BI-B@NKING</dc:title>
</cp:coreProperties>
</file>